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1C7-D32B-40FF-AC8F-6E61FDD6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A25-D9E1-4677-9F3C-2AB81535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EFA-6708-4FA6-9421-9DB9DC11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DB5-3BAA-447A-8A3B-5685DF07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3100-0CD1-4B7E-9F6F-B1676AEA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BB59-50C9-45E0-8523-03FF6C96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E87C-81DF-4C27-84D8-3E70A7AE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F889-8CD6-4E9D-9A2C-B1AD6BDF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4E2A-17B6-4C5B-8BDB-3094D720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89E6-EDAB-4C0D-868A-AEBDFCBD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C166-AB11-4CBB-9115-3D189671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A61-C529-4F07-B91B-4566437E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822E-E321-4B25-9726-2BB41859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E0A5-8BD9-422F-B2B2-CCBC5816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97A4-E356-416D-9DEA-8593F146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7C1F-27CB-4F14-9ABA-0E8A57A8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AB7F-FB01-4834-B915-758778B0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1D3FC-0084-43A7-B1AA-E015BAE8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FFDF6-42E0-4FE1-AE7D-B6A50AE3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5F41-BEAE-45B0-832C-157696E1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FA27-A43F-4F1B-87BB-35832D1B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0AF0-E9F3-4F9E-BBCB-85362841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DFF-3C8D-422C-B5BA-AC338E16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F2D3-AF19-4ADE-ABC4-BB96738A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3E97-3899-4DCD-8D1A-E901F77E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7DBC-EAA6-47C8-B1E7-BFC728EE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FCB4-9B6F-4FEE-B353-2701AA75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F968-D0CD-4893-AFB3-EF570D8F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7FCC5-235B-4A5C-BD8A-303C97A6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2122-9E97-4087-ADB8-13AEBC46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E48D-9A54-4B8A-BF1A-5A4D8D7B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564D-CCA6-496B-9671-2B6C481A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6143-0CF5-4D2A-8C94-191722C9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04D-DDD8-4CD3-B509-3E39D96E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C5CC-4C3D-4403-9CA6-997E9837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A815-46B6-47BB-91DD-5BDA148E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0A70-A034-47C2-A1B1-51F843B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F12C-28F2-4BF3-BBC6-52F08601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DD6A-147A-4032-822B-A6564256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169A-B915-4C2D-BC52-6564875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4930-9117-4C24-A281-E06BECA4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F04A-1669-4F50-A037-74139EB3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0FB2-2DD1-4827-91D9-CDC53A6B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340-B214-4B48-9FED-490D4DB2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963-171E-4182-A8F9-0D088E90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8F1-7CF6-4841-8BCA-355E2DCD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5AD-430B-4CFC-A4FA-DBA2EE75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86D-D039-4B37-BC0B-4E444026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dit Master text sty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econd lev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Third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ifth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8BBFE9-16DA-4783-B1E7-3936A7C05CA3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53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54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55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64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Click to edit Master title styl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8FEE02-5651-41A0-B83D-CF00033813F3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4800600"/>
            <a:ext cx="859644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7160" y="609480"/>
            <a:ext cx="8596440" cy="384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icon to add pictur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677160" y="5367240"/>
            <a:ext cx="8596440" cy="6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Edit Master text styles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5B7A38-301B-44B4-B3CF-561643377924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69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70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71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34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/>
                </a:solidFill>
                <a:latin typeface="Trebuchet MS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7160" y="4470480"/>
            <a:ext cx="8596440" cy="157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dit Master text sty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8C8ADD-7165-47EB-BFAE-9D83A192BD4A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7840" y="2463480"/>
            <a:ext cx="8596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1"/>
                </a:solidFill>
                <a:latin typeface="Trebuchet MS"/>
              </a:rPr>
              <a:t>2D TRANSFORMATIONS</a:t>
            </a:r>
            <a:br>
              <a:rPr sz="3600"/>
            </a:b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COMPUTER GRAPH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507240" y="263160"/>
            <a:ext cx="2112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493920" y="1811160"/>
            <a:ext cx="78033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77160" y="800280"/>
            <a:ext cx="8596440" cy="524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hat equation can be represented in matrix fo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x’    y’    =  x   y      cos 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   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-sin   cos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we can write this equation as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P’ = P . 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Where R is a rotation matrix and it is given 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R   =       cos 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-sin   cos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Double Bracket 3"/>
          <p:cNvSpPr/>
          <p:nvPr/>
        </p:nvSpPr>
        <p:spPr>
          <a:xfrm>
            <a:off x="1195920" y="1327680"/>
            <a:ext cx="1142640" cy="40392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Double Bracket 4"/>
          <p:cNvSpPr/>
          <p:nvPr/>
        </p:nvSpPr>
        <p:spPr>
          <a:xfrm>
            <a:off x="2787120" y="1327680"/>
            <a:ext cx="878760" cy="40392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Double Bracket 5"/>
          <p:cNvSpPr/>
          <p:nvPr/>
        </p:nvSpPr>
        <p:spPr>
          <a:xfrm>
            <a:off x="3859920" y="1239840"/>
            <a:ext cx="1995480" cy="109872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Double Bracket 6"/>
          <p:cNvSpPr/>
          <p:nvPr/>
        </p:nvSpPr>
        <p:spPr>
          <a:xfrm>
            <a:off x="2022120" y="3798360"/>
            <a:ext cx="2136240" cy="109872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77160" y="290160"/>
            <a:ext cx="8596440" cy="57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A point (4,3) is rotated counterclockwise by angle of 45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find the rotation matrix and the resultant poi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R =  cos         =       cos45     sin4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-     cos                -sin45     cos4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=  1/√2   1/√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- 1/√2   1/√2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P’ =  4  3    1/√2   1/√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- 1/√2   1/√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=   4/√2  – 3/√2    4/√2  + 3/√2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=   1/√2    7/√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Double Bracket 4"/>
          <p:cNvSpPr/>
          <p:nvPr/>
        </p:nvSpPr>
        <p:spPr>
          <a:xfrm>
            <a:off x="1775880" y="1389240"/>
            <a:ext cx="1933920" cy="8085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Double Bracket 5"/>
          <p:cNvSpPr/>
          <p:nvPr/>
        </p:nvSpPr>
        <p:spPr>
          <a:xfrm>
            <a:off x="5082120" y="1327680"/>
            <a:ext cx="2180160" cy="8085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Double Bracket 6"/>
          <p:cNvSpPr/>
          <p:nvPr/>
        </p:nvSpPr>
        <p:spPr>
          <a:xfrm>
            <a:off x="1714680" y="2329920"/>
            <a:ext cx="1837080" cy="8085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Double Bracket 7"/>
          <p:cNvSpPr/>
          <p:nvPr/>
        </p:nvSpPr>
        <p:spPr>
          <a:xfrm>
            <a:off x="1951920" y="3297240"/>
            <a:ext cx="659160" cy="33372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Double Bracket 8"/>
          <p:cNvSpPr/>
          <p:nvPr/>
        </p:nvSpPr>
        <p:spPr>
          <a:xfrm>
            <a:off x="2690280" y="3367440"/>
            <a:ext cx="2039400" cy="8085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Double Bracket 9"/>
          <p:cNvSpPr/>
          <p:nvPr/>
        </p:nvSpPr>
        <p:spPr>
          <a:xfrm>
            <a:off x="2092680" y="4237920"/>
            <a:ext cx="3903480" cy="44820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Double Bracket 10"/>
          <p:cNvSpPr/>
          <p:nvPr/>
        </p:nvSpPr>
        <p:spPr>
          <a:xfrm>
            <a:off x="2092680" y="4800600"/>
            <a:ext cx="1766880" cy="32508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800" y="609480"/>
            <a:ext cx="6301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1" lang="en-IN" sz="4400" spc="-1" strike="noStrike">
                <a:solidFill>
                  <a:srgbClr val="000000"/>
                </a:solidFill>
                <a:latin typeface="Trebuchet MS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77160" y="1503360"/>
            <a:ext cx="8596440" cy="50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A scaling transformation changes the size of an obje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his operation can be carried out for polygons by multiplying the co-ordinates values (x , y) of each vertex by scaling factors Sx and Sy to produce the transformed co-ordinates (x’ , y’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x’ = x . Sx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y’ = y . S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In the matrix fo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x’  y’  =  x  y   Sx   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0    Sy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=  P . 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Double Bracket 3"/>
          <p:cNvSpPr/>
          <p:nvPr/>
        </p:nvSpPr>
        <p:spPr>
          <a:xfrm>
            <a:off x="3033360" y="5046840"/>
            <a:ext cx="1045800" cy="97560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Double Bracket 4"/>
          <p:cNvSpPr/>
          <p:nvPr/>
        </p:nvSpPr>
        <p:spPr>
          <a:xfrm>
            <a:off x="2242080" y="5196240"/>
            <a:ext cx="659160" cy="28980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Double Bracket 5"/>
          <p:cNvSpPr/>
          <p:nvPr/>
        </p:nvSpPr>
        <p:spPr>
          <a:xfrm>
            <a:off x="1046160" y="5196240"/>
            <a:ext cx="843840" cy="28980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3800" y="15624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Scaling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957960"/>
            <a:ext cx="9844920" cy="589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niform Scaling                                             Un-uniform Scal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275400" y="2108520"/>
            <a:ext cx="4534200" cy="2901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5436360" y="2278800"/>
            <a:ext cx="417636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7160" y="993600"/>
            <a:ext cx="8596440" cy="6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en-IN" sz="3200" spc="-1" strike="noStrike">
                <a:solidFill>
                  <a:srgbClr val="000000"/>
                </a:solidFill>
                <a:latin typeface="Trebuchet MS"/>
              </a:rPr>
              <a:t>Homogeneous co-ordinates for Transl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77160" y="2162880"/>
            <a:ext cx="8596440" cy="38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 homogeneous co-ordinates for translation are given 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 =   1    0    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                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0    1    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                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x   ty   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herefore , we hav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x’  y’  1    =    x   y   1         1    0     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    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0    1    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    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tx   ty   1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                      </a:t>
            </a:r>
            <a:r>
              <a:rPr b="0" lang="en-IN" sz="1800" spc="-1" strike="noStrike">
                <a:solidFill>
                  <a:srgbClr val="404040"/>
                </a:solidFill>
                <a:latin typeface="Trebuchet MS"/>
              </a:rPr>
              <a:t>=    x + tx  y + ty  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Double Bracket 3"/>
          <p:cNvSpPr/>
          <p:nvPr/>
        </p:nvSpPr>
        <p:spPr>
          <a:xfrm>
            <a:off x="1820160" y="2584800"/>
            <a:ext cx="1186560" cy="117792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Double Bracket 4"/>
          <p:cNvSpPr/>
          <p:nvPr/>
        </p:nvSpPr>
        <p:spPr>
          <a:xfrm>
            <a:off x="1046160" y="4187520"/>
            <a:ext cx="993240" cy="34884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Double Bracket 5"/>
          <p:cNvSpPr/>
          <p:nvPr/>
        </p:nvSpPr>
        <p:spPr>
          <a:xfrm>
            <a:off x="2558520" y="4187520"/>
            <a:ext cx="834840" cy="34884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Double Bracket 6"/>
          <p:cNvSpPr/>
          <p:nvPr/>
        </p:nvSpPr>
        <p:spPr>
          <a:xfrm>
            <a:off x="3842280" y="4187520"/>
            <a:ext cx="1362600" cy="113148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Double Bracket 8"/>
          <p:cNvSpPr/>
          <p:nvPr/>
        </p:nvSpPr>
        <p:spPr>
          <a:xfrm>
            <a:off x="2629080" y="5319360"/>
            <a:ext cx="1626120" cy="4701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7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N" sz="3600" spc="-1" strike="noStrike">
                <a:solidFill>
                  <a:srgbClr val="000000"/>
                </a:solidFill>
                <a:latin typeface="Trebuchet MS"/>
              </a:rPr>
              <a:t>Homogeneous co-ordinates for rotatio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77160" y="1468440"/>
            <a:ext cx="8596440" cy="457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he homogeneous co-ordinates for rotation are given 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R =    cos      s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-sin      co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0           0      1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herefore , we hav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x’    y’    1   =   x  y  1     cos      s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          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-sin      co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             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0           0      1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=  x cos - y sin   x sin + y cos   1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Double Bracket 3"/>
          <p:cNvSpPr/>
          <p:nvPr/>
        </p:nvSpPr>
        <p:spPr>
          <a:xfrm>
            <a:off x="2110320" y="1995840"/>
            <a:ext cx="2637360" cy="13359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Double Bracket 4"/>
          <p:cNvSpPr/>
          <p:nvPr/>
        </p:nvSpPr>
        <p:spPr>
          <a:xfrm>
            <a:off x="4572000" y="3983040"/>
            <a:ext cx="2637360" cy="14151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Double Bracket 5"/>
          <p:cNvSpPr/>
          <p:nvPr/>
        </p:nvSpPr>
        <p:spPr>
          <a:xfrm>
            <a:off x="3253320" y="3983040"/>
            <a:ext cx="1045800" cy="40392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Double Bracket 6"/>
          <p:cNvSpPr/>
          <p:nvPr/>
        </p:nvSpPr>
        <p:spPr>
          <a:xfrm>
            <a:off x="1116720" y="3983040"/>
            <a:ext cx="1591200" cy="40392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Double Bracket 7"/>
          <p:cNvSpPr/>
          <p:nvPr/>
        </p:nvSpPr>
        <p:spPr>
          <a:xfrm>
            <a:off x="3191760" y="5398560"/>
            <a:ext cx="4923360" cy="51840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7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N" sz="3600" spc="-1" strike="noStrike">
                <a:solidFill>
                  <a:srgbClr val="000000"/>
                </a:solidFill>
                <a:latin typeface="Trebuchet MS"/>
              </a:rPr>
              <a:t>Homogeneous co-ordinates for scaling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77160" y="1239840"/>
            <a:ext cx="8596440" cy="480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he homogeneous co-ordinate for scaling are given a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S  =   Sx   0   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0   Sy  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0    0   1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herefore , we hav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x’  y’  1  =   x  y  1   Sx   0   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    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0   Sy  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    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0    0   1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=   x . Sx   y . Sy   1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Double Bracket 3"/>
          <p:cNvSpPr/>
          <p:nvPr/>
        </p:nvSpPr>
        <p:spPr>
          <a:xfrm>
            <a:off x="1890360" y="1784880"/>
            <a:ext cx="1432800" cy="137124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Double Bracket 4"/>
          <p:cNvSpPr/>
          <p:nvPr/>
        </p:nvSpPr>
        <p:spPr>
          <a:xfrm>
            <a:off x="1099080" y="3789360"/>
            <a:ext cx="1239480" cy="32508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Double Bracket 5"/>
          <p:cNvSpPr/>
          <p:nvPr/>
        </p:nvSpPr>
        <p:spPr>
          <a:xfrm>
            <a:off x="2822400" y="3786480"/>
            <a:ext cx="949320" cy="3279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Double Bracket 6"/>
          <p:cNvSpPr/>
          <p:nvPr/>
        </p:nvSpPr>
        <p:spPr>
          <a:xfrm>
            <a:off x="3939120" y="3657600"/>
            <a:ext cx="1406520" cy="146808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Double Bracket 7"/>
          <p:cNvSpPr/>
          <p:nvPr/>
        </p:nvSpPr>
        <p:spPr>
          <a:xfrm>
            <a:off x="2822400" y="5301720"/>
            <a:ext cx="2496600" cy="31608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067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722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2D Transformat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ransformations are the operations applied t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geometrical description of an object to change i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osition, orientation, or size are called geometr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ransformations”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97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3189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81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473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0572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080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5374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104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CONCLUS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7800" y="148860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To manipulate the initially created object and to display the</a:t>
            </a:r>
            <a:br>
              <a:rPr sz="3600"/>
            </a:b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modified object without having to redraw it, we use</a:t>
            </a:r>
            <a:br>
              <a:rPr sz="3600"/>
            </a:b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Transformations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960200" y="246528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Trebuchet MS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40040" y="329400"/>
            <a:ext cx="5932440" cy="7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N" sz="5400" spc="-1" strike="noStrike">
                <a:solidFill>
                  <a:srgbClr val="000000"/>
                </a:solidFill>
                <a:latin typeface="Trebuchet MS"/>
              </a:rPr>
              <a:t>Translation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23040" y="1697040"/>
            <a:ext cx="835056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800" spc="-1" strike="noStrike">
                <a:solidFill>
                  <a:srgbClr val="808080"/>
                </a:solidFill>
                <a:latin typeface="Trebuchet MS"/>
              </a:rPr>
              <a:t>Translation is a process of changing the position of an object in a straight-line path from one co-ordinate location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800" spc="-1" strike="noStrike">
                <a:solidFill>
                  <a:srgbClr val="808080"/>
                </a:solidFill>
                <a:latin typeface="Trebuchet MS"/>
              </a:rPr>
              <a:t>We can translate a two dimensional point by adding translation distances, tx and 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800" spc="-1" strike="noStrike">
                <a:solidFill>
                  <a:srgbClr val="808080"/>
                </a:solidFill>
                <a:latin typeface="Trebuchet MS"/>
              </a:rPr>
              <a:t>Suppose the original position is (x ,y) then new position is (x’, y’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800" spc="-1" strike="noStrike">
                <a:solidFill>
                  <a:srgbClr val="808080"/>
                </a:solidFill>
                <a:latin typeface="Trebuchet MS"/>
              </a:rPr>
              <a:t>Here x’=x + tx  and y’=y + 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Placeholder 11" descr=""/>
          <p:cNvPicPr/>
          <p:nvPr/>
        </p:nvPicPr>
        <p:blipFill>
          <a:blip r:embed="rId1"/>
          <a:srcRect l="0" t="1704" r="0" b="1704"/>
          <a:stretch/>
        </p:blipFill>
        <p:spPr>
          <a:xfrm>
            <a:off x="993600" y="609480"/>
            <a:ext cx="828036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463320" y="2513880"/>
            <a:ext cx="7051680" cy="327276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626400" y="480240"/>
            <a:ext cx="642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ran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77160" y="914400"/>
            <a:ext cx="8596440" cy="512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Matrix form of the equation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X’ = X + tx   and  Y’ = Y + ty  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P =       x           P’ =     x’               T=      tx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y                      y’                        ty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we can write it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P’= P + T                          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Double Bracket 4"/>
          <p:cNvSpPr/>
          <p:nvPr/>
        </p:nvSpPr>
        <p:spPr>
          <a:xfrm>
            <a:off x="1452600" y="2871360"/>
            <a:ext cx="905400" cy="121284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Double Bracket 5"/>
          <p:cNvSpPr/>
          <p:nvPr/>
        </p:nvSpPr>
        <p:spPr>
          <a:xfrm>
            <a:off x="3754440" y="2871360"/>
            <a:ext cx="729360" cy="121284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Double Bracket 6"/>
          <p:cNvSpPr/>
          <p:nvPr/>
        </p:nvSpPr>
        <p:spPr>
          <a:xfrm>
            <a:off x="6233760" y="2898720"/>
            <a:ext cx="808560" cy="121284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25440"/>
            <a:ext cx="88164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Translate a polygon with co-ordinates A(2,5)  B(7,10)  and  C(10,2) by 3 units in X direction and 4 units in Y direction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A’ =  A +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=   2      +        3    =      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            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5               4             9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B’  =  B + 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=  7       +     3     =        10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             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10            4               1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C’  =  C + 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=   10     +    3     =      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                  </a:t>
            </a:r>
            <a:r>
              <a:rPr b="0" lang="en-IN" sz="2000" spc="-1" strike="noStrike">
                <a:solidFill>
                  <a:srgbClr val="404040"/>
                </a:solidFill>
                <a:latin typeface="Trebuchet MS"/>
              </a:rPr>
              <a:t>2           4             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Double Bracket 3"/>
          <p:cNvSpPr/>
          <p:nvPr/>
        </p:nvSpPr>
        <p:spPr>
          <a:xfrm>
            <a:off x="1530000" y="1512360"/>
            <a:ext cx="333720" cy="8085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Double Bracket 4"/>
          <p:cNvSpPr/>
          <p:nvPr/>
        </p:nvSpPr>
        <p:spPr>
          <a:xfrm>
            <a:off x="2769480" y="1512360"/>
            <a:ext cx="333720" cy="8085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Double Bracket 5"/>
          <p:cNvSpPr/>
          <p:nvPr/>
        </p:nvSpPr>
        <p:spPr>
          <a:xfrm>
            <a:off x="3930120" y="1512360"/>
            <a:ext cx="333720" cy="8085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Double Bracket 6"/>
          <p:cNvSpPr/>
          <p:nvPr/>
        </p:nvSpPr>
        <p:spPr>
          <a:xfrm>
            <a:off x="1608840" y="2813400"/>
            <a:ext cx="412920" cy="8085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Double Bracket 7"/>
          <p:cNvSpPr/>
          <p:nvPr/>
        </p:nvSpPr>
        <p:spPr>
          <a:xfrm>
            <a:off x="2769480" y="2813400"/>
            <a:ext cx="333720" cy="87012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Double Bracket 8"/>
          <p:cNvSpPr/>
          <p:nvPr/>
        </p:nvSpPr>
        <p:spPr>
          <a:xfrm>
            <a:off x="4009320" y="2874960"/>
            <a:ext cx="474480" cy="8085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Double Bracket 9"/>
          <p:cNvSpPr/>
          <p:nvPr/>
        </p:nvSpPr>
        <p:spPr>
          <a:xfrm>
            <a:off x="1697040" y="4150080"/>
            <a:ext cx="412920" cy="80856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Double Bracket 10"/>
          <p:cNvSpPr/>
          <p:nvPr/>
        </p:nvSpPr>
        <p:spPr>
          <a:xfrm>
            <a:off x="2769480" y="4114800"/>
            <a:ext cx="412920" cy="84384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Double Bracket 11"/>
          <p:cNvSpPr/>
          <p:nvPr/>
        </p:nvSpPr>
        <p:spPr>
          <a:xfrm>
            <a:off x="3930120" y="4114800"/>
            <a:ext cx="412920" cy="905400"/>
          </a:xfrm>
          <a:prstGeom prst="bracketPair">
            <a:avLst>
              <a:gd name="adj" fmla="val 16667"/>
            </a:avLst>
          </a:prstGeom>
          <a:noFill/>
          <a:ln cap="rnd">
            <a:solidFill>
              <a:srgbClr val="90c226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IN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60840" y="609480"/>
            <a:ext cx="6512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N" sz="4400" spc="-1" strike="noStrike">
                <a:solidFill>
                  <a:srgbClr val="000000"/>
                </a:solidFill>
                <a:latin typeface="Trebuchet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2080" y="1538640"/>
            <a:ext cx="8561520" cy="450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A two dimensional rotation is applied to an object by repositioning it along a circular path in the xy plan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Using standard trigonometric equations , we can express the transformed co-ordinates in terms of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x’ = r cos( coscosr sins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y’ = r sin( cosr s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The original co-ordinates of the point 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x = r co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en-IN" sz="2400" spc="-1" strike="noStrike">
                <a:solidFill>
                  <a:srgbClr val="404040"/>
                </a:solidFill>
                <a:latin typeface="Trebuchet MS"/>
              </a:rPr>
              <a:t>y = r s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Placeholder 5" descr=""/>
          <p:cNvPicPr/>
          <p:nvPr/>
        </p:nvPicPr>
        <p:blipFill>
          <a:blip r:embed="rId1"/>
          <a:srcRect l="897" t="0" r="897" b="0"/>
          <a:stretch/>
        </p:blipFill>
        <p:spPr>
          <a:xfrm>
            <a:off x="677880" y="609480"/>
            <a:ext cx="8596080" cy="45248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77160" y="5367240"/>
            <a:ext cx="859644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After substituting equation 2 in equation 1 we ge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x’=x co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IN" sz="2200" spc="-1" strike="noStrike">
                <a:solidFill>
                  <a:srgbClr val="404040"/>
                </a:solidFill>
                <a:latin typeface="Trebuchet MS"/>
              </a:rPr>
              <a:t>Y’=x sin + y c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acet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acet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acet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Facet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58</TotalTime>
  <Application>LibreOffice/7.4.7.2$Linux_X86_64 LibreOffice_project/40$Build-2</Application>
  <AppVersion>15.0000</AppVersion>
  <Words>85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08:53:08Z</dcterms:created>
  <dc:creator>hirenvegda18@gmail.com</dc:creator>
  <dc:description/>
  <dc:language>en-US</dc:language>
  <cp:lastModifiedBy>mayank</cp:lastModifiedBy>
  <dcterms:modified xsi:type="dcterms:W3CDTF">2018-07-26T10:21:02Z</dcterms:modified>
  <cp:revision>10</cp:revision>
  <dc:subject/>
  <dc:title>Trans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9</vt:r8>
  </property>
</Properties>
</file>